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0B7-2D83-41D8-A788-9EED44C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3AB-1469-4E5E-BAD8-23A6F4F8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681-B965-4FB7-98B7-B55BFB23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C8A-4092-4BE5-942D-962E7EEC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EF1-BC7C-4E39-ABAA-7C1DB9C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85E-280B-43A9-A2DA-B7548E5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B11-BDF4-4751-98D0-4A23D9F7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7DD-3B50-44A8-9273-5F414D1A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36B-8C50-44E0-B8C6-F8B217EE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D10-A775-47DC-9F45-D762AA9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074-02D7-44A6-8AC3-B6AFABD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5EF-A246-42EC-ABA7-4BA0F16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F71C-97E4-48B9-8686-591E06B96CD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rs.lt/" TargetMode="External"/><Relationship Id="rId2" Type="http://schemas.openxmlformats.org/officeDocument/2006/relationships/hyperlink" Target="http://www.lb.lt/" TargetMode="External"/><Relationship Id="rId3" Type="http://schemas.openxmlformats.org/officeDocument/2006/relationships/hyperlink" Target="http://www.lb.lt/" TargetMode="External"/><Relationship Id="rId4" Type="http://schemas.openxmlformats.org/officeDocument/2006/relationships/hyperlink" Target="http://www.lb.lt/" TargetMode="External"/><Relationship Id="rId5" Type="http://schemas.openxmlformats.org/officeDocument/2006/relationships/hyperlink" Target="http://www.lsc.lt/" TargetMode="External"/><Relationship Id="rId6" Type="http://schemas.openxmlformats.org/officeDocument/2006/relationships/hyperlink" Target="http://www.lsc.lt/" TargetMode="External"/><Relationship Id="rId7" Type="http://schemas.openxmlformats.org/officeDocument/2006/relationships/hyperlink" Target="http://www.lsc.lt/" TargetMode="External"/><Relationship Id="rId8" Type="http://schemas.openxmlformats.org/officeDocument/2006/relationships/hyperlink" Target="http://www.dpk.lt/" TargetMode="External"/><Relationship Id="rId9" Type="http://schemas.openxmlformats.org/officeDocument/2006/relationships/hyperlink" Target="http://www.dpk.lt/" TargetMode="External"/><Relationship Id="rId10" Type="http://schemas.openxmlformats.org/officeDocument/2006/relationships/hyperlink" Target="http://www.dpk.lt/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ntautas Pošiū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ef Legal Adv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ean Affair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of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 of AEDBF and Correspondent in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gposiunas@lb.l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30240" cy="10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784-CD50-4CFD-989B-457789F668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s: National law implementing the following European Council and Parliament Directives as well as respective implementing measures, if an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) MiFID - 2004/3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Banking Directive - 2006/48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) Prospectus Directive 2003/7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) Transparency Directive 2004/10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) Market Abuse Directive 2003/6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) UCITS, 85/61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in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00A-5857-408B-8AC4-337ABB3DA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Hierarchy of legal acts in legal system of Lithu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1. Adaptation of Co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2. Competences of the Union – integral part of the legal syste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3. Vertical direct effec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4. Horizontal direct effec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5. Directiv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6. Cod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E90-9B39-4F40-915C-886318B3E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. Supervisory authoriti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2. Law on Financial Institut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3. Law on the Bank of Lithuania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4. Law on Bank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icensed bank or branch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presentative office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reign bank licensed in a Member State of the European Union and providing financial services in the Republic of Lithuania without establishing a branch or on a branch established in the Republic of Lithuania by a foreign bank licensed in a Member State of the European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5. Law on Central Credit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6. Law on Credit Un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B6F-EB50-43B0-80A0-0F5BADFF91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7. Law on Markets in Financial Instrument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8. Law on Collective Investment Undertaking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9. Law on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0. Law on Supplementary Voluntary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1. Law on Insurance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39C-11E5-4895-B9BA-E79011974E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Explicit competencies of the European Courts – Article 220 (ex 164) (ex ante 164)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ticle 234 (ex 177) (ex ante 177)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corpore or in common is a legal ground for remedy in the context of any conflict of national law of the Member State of the EU vis-à-vis a Community law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future Article 234 of the Treaty establishing the European Community is to be substituted by Article 267 of the Treaty on Functioning of the European Union as of 1 January 2009 provided that the Treaty of Lisbon will enter into force).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jurisdiction (foreign law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competence (remedy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247-7E0D-4AF1-8195-F4369920C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reference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of Acc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12003T002 – effective 1 May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2005SA002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– effective 1 Januar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ateral Vienna Convention on the law of treatie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3 May 1969, No. 18232, United Nations, Treaty Series, vol. 1155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imas of the Republic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www.lrs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Bank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b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ithuanian Securities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sc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nsurance Supervisory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http://www.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dpk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C18-2A6A-4507-AC04-51E374DCD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6:33:38Z</dcterms:created>
  <dc:creator>Gintautas Posiunas</dc:creator>
  <dc:description/>
  <dc:language>en-US</dc:language>
  <cp:lastModifiedBy>d.tsibanoulis</cp:lastModifiedBy>
  <dcterms:modified xsi:type="dcterms:W3CDTF">2008-10-16T14:48:19Z</dcterms:modified>
  <cp:revision>7</cp:revision>
  <dc:subject/>
  <dc:title>Slide 1</dc:title>
</cp:coreProperties>
</file>