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4E16-7F44-4188-81F3-BD2564B77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4723-CF08-4D9C-85AB-BAB6AB92E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0851-6152-4666-956E-324AD4E3E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7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9528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7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9528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2BEA-4AC6-44C0-83DE-81B4A5A88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D86-5C09-43C8-BE97-B124E4D33E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A4E2-D088-48CB-BD23-12A9D4B2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C71-D23C-4EEF-BF7A-FB4F09CF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3FD-5287-4CA6-BFCC-DF052C5B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F71-AEC3-4A44-8CAD-6323C267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1843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05B-ED63-4D26-A40E-01744E04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400-6026-4FBB-BEA2-828AA5C8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B1CB-0E02-43DE-898C-E3137655C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A95-38C9-4127-A537-65CDFBCE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02D-76DE-4F01-9AAB-FEF78381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E33-8873-40E5-8A1B-7E0E5F0F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127-E0F5-4707-9DB0-E4847138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7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9528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9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7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79528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AF2-7BFF-4CB7-85B2-16E3C210E1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1232-4A46-4B43-AEE9-8D2CFDBEA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4C37-9EB8-442D-8C7E-91314E947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F29E-4F89-46B1-8513-BA4883F88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9640" y="1843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92A6-4BB7-48B0-A4D8-BEF682F17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B20A-BBA9-40D9-8BDF-6DBB95307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DAEF-848D-4A55-AEF6-374C27A6F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AD13-908A-4B92-9066-C1F86C0AD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2"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3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4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5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6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0360"/>
            <a:ext cx="56786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18360"/>
            <a:ext cx="5791320" cy="5396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678640" y="6172200"/>
            <a:ext cx="3465360" cy="685800"/>
          </a:xfrm>
          <a:prstGeom prst="rect">
            <a:avLst/>
          </a:prstGeom>
          <a:solidFill>
            <a:srgbClr val="8a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523800" y="6292440"/>
            <a:ext cx="71928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59C9-92EE-4C0C-9807-D7EB5C0487A7}" type="slidenum">
              <a:rPr b="0" lang="fr-FR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3338" b="27685"/>
          <a:stretch/>
        </p:blipFill>
        <p:spPr>
          <a:xfrm>
            <a:off x="6048360" y="6195960"/>
            <a:ext cx="2106720" cy="4730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5678640" cy="289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318360"/>
            <a:ext cx="5791320" cy="5396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78640" y="6172200"/>
            <a:ext cx="3465360" cy="685800"/>
          </a:xfrm>
          <a:prstGeom prst="rect">
            <a:avLst/>
          </a:prstGeom>
          <a:solidFill>
            <a:srgbClr val="8a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31680"/>
            <a:ext cx="525780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8a1d1d"/>
                </a:solidFill>
                <a:latin typeface="Arial"/>
              </a:rPr>
              <a:t>Click to edit the title text format</a:t>
            </a:r>
            <a:endParaRPr b="0" lang="en-US" sz="92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295280" y="6295680"/>
            <a:ext cx="426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8a1d1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8a1d1d"/>
                </a:solidFill>
                <a:latin typeface="Arial"/>
              </a:rPr>
              <a:t>&lt;footer&gt;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- </a:t>
            </a:r>
            <a:fld id="{76E89164-D2EB-4D1B-A41D-35C9CD4CD312}" type="datetime5">
              <a:rPr b="0" lang="fr-FR" sz="800" spc="-1" strike="noStrike">
                <a:solidFill>
                  <a:srgbClr val="000000"/>
                </a:solidFill>
                <a:latin typeface="Arial"/>
              </a:rPr>
              <a:t>29 juil.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523800" y="6292440"/>
            <a:ext cx="71928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1D9B-D265-48D8-B488-AE34BA8E7D0F}" type="slidenum">
              <a:rPr b="0" lang="fr-FR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3338" b="27685"/>
          <a:stretch/>
        </p:blipFill>
        <p:spPr>
          <a:xfrm>
            <a:off x="6048360" y="6195960"/>
            <a:ext cx="21067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4724280" cy="6324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"/>
            <p:cNvSpPr/>
            <p:nvPr/>
          </p:nvSpPr>
          <p:spPr>
            <a:xfrm>
              <a:off x="4572000" y="0"/>
              <a:ext cx="4572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121440"/>
              <a:ext cx="4648320" cy="7365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5943600"/>
              <a:ext cx="4572000" cy="914400"/>
            </a:xfrm>
            <a:prstGeom prst="rect">
              <a:avLst/>
            </a:prstGeom>
            <a:solidFill>
              <a:srgbClr val="8a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16360" y="1341000"/>
            <a:ext cx="41911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800" spc="-1" strike="noStrike">
                <a:solidFill>
                  <a:srgbClr val="8a1d1d"/>
                </a:solidFill>
                <a:latin typeface="Arial"/>
              </a:rPr>
              <a:t>ADMINISTRATIVE </a:t>
            </a:r>
            <a:r>
              <a:rPr b="1" lang="en-US" sz="1800" spc="-1" strike="noStrike">
                <a:solidFill>
                  <a:srgbClr val="8a1d1d"/>
                </a:solidFill>
                <a:latin typeface="Arial"/>
              </a:rPr>
              <a:t>SANCTIONS AND MEASURES IN FRANCE  BY THE AMF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3523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a1d1d"/>
              </a:solidFill>
              <a:latin typeface="Arial"/>
            </a:endParaRPr>
          </a:p>
          <a:p>
            <a:pPr marL="3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a1d1d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3338" b="27685"/>
          <a:stretch/>
        </p:blipFill>
        <p:spPr>
          <a:xfrm>
            <a:off x="5000760" y="5962680"/>
            <a:ext cx="2871720" cy="646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32360" y="4005360"/>
            <a:ext cx="3743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Hubert de VAU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a1d1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648F-0192-4C41-8563-5D5C3869B4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A LIMITED INDEMNIFICATION FOR THE INJURED PARTY 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“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Loi de modernisation de l’économie” Act (August 4th, 2008): the increase of the quantum of the administrative sanctions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AMF sanctions are intended to protect the financial market and not to repair individual damages caused to the investors by the punished entities.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Coulon Report : give the possibility to investors, acting within the framework of a class action, to eventually use the elements of the investigation led by the AMF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0BE1-86EF-480B-B4CD-423F4971FA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AMICABLE SETTLEMENT PROCEEDINGS (1/2) 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01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A/ Mediation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The Mediation principle is influenced by other jurisdictions like UK where the FSA is able to deliver, in certain circumstances, amicable settlement.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 U.S. Practice (90 % of the stock-exchange cases are settled by transaction)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Pursuant to article L. 621-19 CMF, the AMF is authorised to receive claims relating to matters within its jurisdiction from any interested party and to deal with them appropriately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0" algn="just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16C1-E75B-452B-B29A-1DA05C5580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AMICABLE SETTLEMENT PROCEEDINGS (2/2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772400" cy="53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B/ Settlement agreements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e </a:t>
            </a:r>
            <a:r>
              <a:rPr b="0" i="1" lang="en-US" sz="1500" spc="-1" strike="noStrike">
                <a:solidFill>
                  <a:srgbClr val="8a1d1d"/>
                </a:solidFill>
                <a:latin typeface="Arial"/>
              </a:rPr>
              <a:t>Coulon Report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brings up to date the grant of settlement powers to the AMF (it recommends the implementation of new rules that allows AMF to enter into agreement for settlement of claims)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0" algn="just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Use in practice?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Liability recognition or not by the  party that accepts the payment of the penalty?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 way to (secretly) interpret/ develop its own rules?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n instrument which could be used to indemnify market abuse’ victims?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1249-0451-478F-AD37-AE375C7163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TTHE AREA OF THE ADMINISTRATIVE SANCTIONS OF THE AMF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AMF dual enforcement action: disciplinary sanctions and administrative sanctions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application area of the administrative sanctions is established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ccording to the type of the violated rule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ccording to the author of the viol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Dual enforcement action involves two types of appeal proceedings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brought before two different institutions: </a:t>
            </a:r>
            <a:r>
              <a:rPr b="0" i="1" lang="en-US" sz="1500" spc="-1" strike="noStrike">
                <a:solidFill>
                  <a:srgbClr val="8a1d1d"/>
                </a:solidFill>
                <a:latin typeface="Arial"/>
              </a:rPr>
              <a:t>Cour d’Appel of Paris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or </a:t>
            </a:r>
            <a:r>
              <a:rPr b="0" i="1" lang="en-US" sz="1500" spc="-1" strike="noStrike">
                <a:solidFill>
                  <a:srgbClr val="8a1d1d"/>
                </a:solidFill>
                <a:latin typeface="Arial"/>
              </a:rPr>
              <a:t>Conseil d’Etat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6755-ACA1-4B6A-91E8-F573FDFC5A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SANCTION SCHEDULE: </a:t>
            </a: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R631-31 &amp;…. CMF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General Secretary (“</a:t>
            </a:r>
            <a:r>
              <a:rPr b="1" i="1" lang="en-US" sz="1500" spc="-1" strike="noStrike">
                <a:solidFill>
                  <a:srgbClr val="8a1d1d"/>
                </a:solidFill>
                <a:latin typeface="Arial"/>
              </a:rPr>
              <a:t>Secrétaire Général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”)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decides to open the investigatio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forwards the investigation report to the Colleg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“College” (Enforcement Commission)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decides to open the Enforcement Procedure that may lead to sanction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notifies the incriminated facts to the partie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informs the prosecutor of the existence of eventual market abuses and sends him the investigation repor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can suspend the activity of the professionals involved in the sanction procedure if they are regulated by AMF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Sanctions Commission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one of its members (appointed as a “rapporteur”) coordinates the due hearing procedure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delivers the sanction, which the Commission may decide to make publi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001E-300C-45FE-9374-09396C73C5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RESPECT OF THE DEFENSE RIGHTS (1/2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426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4572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457200" indent="-3380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French Highest Court (</a:t>
            </a:r>
            <a:r>
              <a:rPr b="1" i="1" lang="en-US" sz="1500" spc="-1" strike="noStrike">
                <a:solidFill>
                  <a:srgbClr val="8a1d1d"/>
                </a:solidFill>
                <a:latin typeface="Arial"/>
              </a:rPr>
              <a:t>Cour de cassation, chambre commerciale 18 June 1996 and C.E. 3 December 1999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:</a:t>
            </a:r>
            <a:r>
              <a:rPr b="1" i="1" lang="en-US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equivalence of the COB and CMF procedures in the criminal procedure)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95256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 algn="just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 algn="just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338040" algn="just">
              <a:spcBef>
                <a:spcPts val="425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Impartiality Rules (“Principe d’impartialité”).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Conflict of interests and AMF : continuous extension of the scope of AMF’s case law, in this respect which will be treated in the following slides.</a:t>
            </a:r>
            <a:r>
              <a:rPr b="1" lang="en-US" sz="1700" spc="-1" strike="noStrike">
                <a:solidFill>
                  <a:srgbClr val="8a1d1d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2B8E-436A-4BB1-B120-975EDDB5D7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RESPECT OF THE DEFENSE RIGHTS (2/2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A/ Constant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evolution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 of the sanction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procedure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Reform of the procedure by the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Financial Security Act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(“Loi de sécurité financière”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Law of December 17, 2007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: the right to challenge the appointment of one of the members of the Commission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Decree of September 2008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: organization of the challenging  proces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B/ Un “unfinished” status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e recent reforms are they sufficient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What solutions to preserve the independence of the Commiss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4BFA-C275-4E6E-8490-259C8DE608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IMPARTIALITY / CONFLICTS OF INTEREST (1/3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61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lvl="2" marL="85392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-2606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Conflict of interests and AMF : continuous extension of the scope of AMF’s case law.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-2606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Major consequences: the AMF decision may be declared void or condemned by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ECHR court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-2606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Legal and regulatory grounds of the Rule of Impartiality  - Relevant provisions of the AMF General Regulations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564480" indent="-21708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Article 111-2 of the AMF General Reg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564480" indent="-21708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Article 111-5, §2 of the AMF General Reg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>
              <a:spcBef>
                <a:spcPts val="300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300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22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22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22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a1d1d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0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7AFB-BFCA-4755-B456-B95A2E32F3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IMPARTIALITY / CONFLICTS OF INTEREST (2/3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ECHR Case law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In the Piersack c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e subjective approach refers to the personal impartiality of the judges involv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Discussions of the French case law regarding Impartiality rule: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2" marL="5554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Necessity to harmonize this case law with others jurisidiction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Rationale of these case laws: is there any clear orientation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Need for a more detailed/specific analysis to assess if impartiality rules have been breached: e.g. does the circumstance that the relevant member of the Enforcement Commission has built the company establishes a lack of impartiality of such member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Is case law compliant to Presumption of Innoncence Princip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Necessity to clarify level of impartiality required:  CE 30 May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555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F8C3-A1CD-4B41-916F-F2B2D191B8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IMPARTIALITY / CONFLICTS OF INTEREST (3/3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Others consequences of the Principle of Impartiality:</a:t>
            </a:r>
            <a:r>
              <a:rPr b="0" lang="fr-FR" sz="1500" spc="-1" strike="noStrike" u="sng">
                <a:solidFill>
                  <a:srgbClr val="8a1d1d"/>
                </a:solidFill>
                <a:uFillTx/>
                <a:latin typeface="Arial"/>
              </a:rPr>
              <a:t>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Publication of the decision is itself a penalty. (CE 9 November 2007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Lack of proportionality of the penalty may be itself contrary to article 6 of the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ECHR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This decision is based on the explanation that the publicity of the decision is a matter of public information of the investors and thus of the financi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9064-5735-49A1-8D4E-9F4D65F5B3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THE RULE «NON BIS IN IDEM»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A market abuse can involve both an administrative sanction and a penal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Limitation of the addition of the AMF sanctions and the criminal Cour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cancellation of the AMF decision does not affect the validity of the legal proceedings engaged by the criminal Court in the same case 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(Cass.Crim., March 1st, 2000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Recommendation n°13 of the "Coulon" Report (February 2008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CBC1-EFCF-407C-85E7-7A5E955A49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59:44Z</dcterms:created>
  <dc:creator>ut0FL1</dc:creator>
  <dc:description/>
  <dc:language>en-US</dc:language>
  <cp:lastModifiedBy>d.tsibanoulis</cp:lastModifiedBy>
  <cp:lastPrinted>2004-04-27T13:45:41Z</cp:lastPrinted>
  <dcterms:modified xsi:type="dcterms:W3CDTF">2008-10-14T08:53:03Z</dcterms:modified>
  <cp:revision>217</cp:revision>
  <dc:subject/>
  <dc:title>Titre de la présentation sur 4 lignes maxim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B5C041778B8F2D449CDD17097E238F160700BB2594DA330DC94E8B823BB0E11417C10000000017B10000D92A686FD98C494B80F83313914C88090000170325930000</vt:lpwstr>
  </property>
  <property fmtid="{D5CDD505-2E9C-101B-9397-08002B2CF9AE}" pid="3" name="_EmailStoreID">
    <vt:lpwstr>0000000038A1BB1005E5101AA1BB08002B2A56C200006D737073742E646C6C00000000004E495441F9BFB80100AA0037D96E000000433A5C4F75746C6F6F6B5F446174615C4F75746C6F6F6B2E70737400</vt:lpwstr>
  </property>
  <property fmtid="{D5CDD505-2E9C-101B-9397-08002B2CF9AE}" pid="4" name="_EmailStoreID0">
    <vt:lpwstr>0000000038A1BB1005E5101AA1BB08002B2A56C20000454D534D44422E444C4C00000000000000001B55FA20AA6611CD9BC800AA002FC45A0C00000053455256455230312D504443002F6F3D426F6E6F72614D61696C2F6F753D5072696D6F2067727570706F20616D6D696E69737472617469766F2F636E3D5265636970696</vt:lpwstr>
  </property>
  <property fmtid="{D5CDD505-2E9C-101B-9397-08002B2CF9AE}" pid="5" name="_EmailStoreID1">
    <vt:lpwstr>56E74732F636E3D52466572726574746900</vt:lpwstr>
  </property>
  <property fmtid="{D5CDD505-2E9C-101B-9397-08002B2CF9AE}" pid="6" name="_NewReviewCycle">
    <vt:lpwstr/>
  </property>
  <property fmtid="{D5CDD505-2E9C-101B-9397-08002B2CF9AE}" pid="7" name="_ReviewCycleID">
    <vt:r8>-1445632612</vt:r8>
  </property>
  <property fmtid="{D5CDD505-2E9C-101B-9397-08002B2CF9AE}" pid="8" name="_TentativeReviewCycleID">
    <vt:r8>-1445632612</vt:r8>
  </property>
</Properties>
</file>