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E9B-1407-4902-B77F-13D0EABF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501-4487-4E8A-9FDB-81B18BE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0EC-A47C-4C1C-9B0F-E03B6CB4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375-077A-4584-AD37-442093CD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CA9C-E66A-474E-8A27-8AF30283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BE5-B3F2-4516-9B96-C44F9198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579-030E-41F1-844A-629121F7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A4DC-1D19-473B-BCB2-36B3B77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67E7-0E93-4A91-AA48-A3A45B06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1E5E-0CD7-418B-9221-CA9EFC84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C281-0D2D-472E-A1D6-3B72BF0A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C97-5C1A-4851-82FF-F5F23A01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235-7DF2-4108-BCC3-5FF28211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F345-3091-4248-A8F0-77B3D0B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74E-A007-4F02-A261-8378E4F8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2D40-8490-4C10-A817-8E684836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51D-A618-459C-B6A9-90619F78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F8A-5D73-476C-BF51-7C9AA81A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C92-E077-48F9-A438-CA45BCB7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0FA-B226-4685-A758-DF6B0AE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E2C-B877-4D94-928A-EEA5284F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B73-F4F8-49E8-B530-A98B2FE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172-6C9A-4056-A706-694942E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016-2FC4-45FE-B11C-EACED9F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264-98F1-4ECE-A290-FCCF5B5DBE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250920" y="26028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D2CE-861F-4C4F-A90A-8C8E0379D6A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5950080"/>
            <a:ext cx="950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exander Karpf, CES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La Co-op                                     3 October 200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f77a09"/>
                </a:solidFill>
                <a:latin typeface="Times New Roman"/>
              </a:rPr>
              <a:t>Marktmissbrauchsricht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esr.eu/" TargetMode="External"/><Relationship Id="rId2" Type="http://schemas.openxmlformats.org/officeDocument/2006/relationships/hyperlink" Target="mailto:mfilippa@cesr.e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6920" y="227628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Hellenic Association for the European la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ssociation Europeene pour le droit Bancaire et Financier </a:t>
            </a:r>
            <a:r>
              <a:rPr b="1" lang="el-GR" sz="2400" spc="-1" strike="noStrike">
                <a:solidFill>
                  <a:srgbClr val="000099"/>
                </a:solidFill>
                <a:latin typeface="Footlight MT Light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ED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17 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October </a:t>
            </a: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Footlight MT Light"/>
              </a:rPr>
              <a:t>Comparative overview of the measures and sanctions provided in the different Membe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Mina Filip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Legal 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Committee of European Securities Regulators (CES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403280" y="241200"/>
            <a:ext cx="7740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Footlight MT Light"/>
              </a:rPr>
              <a:t>Committee of European Securities Regulators</a:t>
            </a:r>
            <a:r>
              <a:rPr b="0" lang="en-GB" sz="1700" spc="-1" strike="noStrike">
                <a:solidFill>
                  <a:srgbClr val="000099"/>
                </a:solidFill>
                <a:latin typeface="Footlight MT Light"/>
              </a:rPr>
              <a:t> </a:t>
            </a:r>
            <a:endParaRPr b="1" lang="en-US" sz="1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53-8C3B-492C-912B-A62AD1541E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.20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i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7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pecuniary criminal sanction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Germany and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DBB-6FF6-46AA-8075-3C7714BB62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uthoris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333-3AA6-4397-8991-450BE92C3F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Οδηγία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s by the authorities or injunction by the Court to cease the illeg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s of warnings or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ure of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missal of the responsible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3D5-E3FF-4495-8BF9-0B4499F434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uthorisation of Investment Fi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.5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Sw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lgar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and unlimited in Denmark and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th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nmark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Bulgaria and Irel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AA6-2DBB-4FF8-B621-D77B0DCA23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nd Articles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16-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-Operating conditions of Investment Fi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iteria used to determine the 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ousness of the br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ingness to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iance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heal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damage/h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 on market/inves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its der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ree of i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cedents for similar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CB0-242A-4D00-9832-1C71BA62A1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892-00AC-4BDF-9F3E-44D2CCEE68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fines and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by the authority or injunction by the Court to cease the unauthorized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 of warning or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nsion of voting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AD3-290B-4E1A-89D6-27041EEA57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inland and Bulgaria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weden and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6.36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.K.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.5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Norway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Slovak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5A0-B9F0-4E3F-BEF0-F698200436B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Prospectus Directive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e measures and sanction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out of 27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cuniary administrative measures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the issuer to justify its actions/ to comply with the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ion or suspension of trading of the issuer’s secu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losure of infractions, issue of public repri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an audit or change an aud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 or suspend advertis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1350 €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enmark to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2.500.000 €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Franc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lgium and Portug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8F4-A62E-47B6-8B9C-D2490C91CC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ΙΙΙ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IN CONCLUS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st cases, both administrative measures and sanctions and criminal sanctions are provided. Criminal sanctions are mostly provided for infringement of provisions arising out of the Market Abuse Directiv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wer to impose administrative measures lies with the administrative competent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specific non pecuniary measures to be impo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gence with regard to the level of the fines and criminal pecuniary sanctions and the duration of impris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criteria used to determine the level of the fi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4C5-4BF9-4624-AF67-3F2960B1C09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verview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findings and comparative data regarding measures and sanctions in the different Membe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VI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6583320"/>
            <a:ext cx="7416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9A5-5237-495C-AE78-72066D89804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sanctions efficien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hould sanctions be harmonised around the EU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 competition between jurisdictions or regulatory arbitra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101-6E47-42E2-9E1B-BB9FABDDF7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s contributing to the efficiency of the sanction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ty of the legal and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supervisory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and efficient investiga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Competent Authorities of different Member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the competent authorities and the judicial authorities/ public prosecu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losure of the sanctions (name &amp; sh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302-AC0E-467C-A20F-DBCC4B7451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For more information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s of the mapping exercis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mfilippa@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469-EE2F-4A8D-9328-34F8BBECBF5D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0240" indent="-660240">
              <a:buClr>
                <a:srgbClr val="0000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Short presentation of CESR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mmittee of European Securities’ Regulators was established in 2001 by a decision of the European Commission. It operates in the context of the Lamfalussy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members: competent authorities of the 27 MS of the EU plus Norway and Ice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purpos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dvising the European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Promoting supervisory conver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Enhancing the cooperation between its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operates with the other two L3 Committees,</a:t>
            </a:r>
            <a:r>
              <a:rPr b="0" lang="el-G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EBS of the banking sector and CEIOPS of the insurance sect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5AE-0ED1-4D27-B989-FA9F2AA5C0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Ι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has already conducted 3 mapping exercis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Market Abuse Directive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)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MiFID-at a final stage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Prospectus Directive (PD)- 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conducting a mapping exercise on the Transparency Directive (T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524-3F05-4D32-9EE1-6A1A5F2795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I. 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conducted the mapping exercises for 3 reasons: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ssess whether its members have equivalent supervisory and sanctioning po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by the Ecofin and the European Commission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the EU-US dialogue on mutual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389-B9D1-4F05-9E92-1A8AD04E0A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FB1-5DC0-4ED5-802D-1D56868A10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drawal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r prohibition of profession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trading of the relevant financial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 of warning or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ase of the illeg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7A1-8A27-472D-A561-D6AD60445C7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o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reland or unlimited in Germany an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Belgium to 15 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EF3-9053-4714-A4AE-34B8D109CE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5 MA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CDD-7E0C-41EF-BCCF-DC9D052D11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9:55:48Z</dcterms:created>
  <dc:creator>ccomporti</dc:creator>
  <dc:description/>
  <dc:language>en-US</dc:language>
  <cp:lastModifiedBy>g.filippa</cp:lastModifiedBy>
  <dcterms:modified xsi:type="dcterms:W3CDTF">2008-10-22T09:47:09Z</dcterms:modified>
  <cp:revision>196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