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E97C-74A8-43AB-A4A8-D19E8D8F3C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367A-A736-41C2-AABD-14BE88B2EE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909C-426E-4E6E-9875-F64B38798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CAA6-B46D-4816-97DC-419D325E98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0001-A4CE-48A7-ABA7-37C3E3E05C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0C96-6857-4DDE-BDBD-CE84259982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7116-D083-4CF1-8A5A-A726D10772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5A1D-3AEB-4606-AD4C-4AA305913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5AE7-E937-4EC1-8B50-9C80DE6FED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6C9B-6311-484D-9EA3-19E1716443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B35D-7988-4F32-A10C-26DA7DF701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9729-76A2-4C53-B850-347CA0102E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spcBef>
                <a:spcPts val="60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60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4792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EDBF – Athens workshop 17 Oct. 2008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1851886-A799-4D37-B737-12E7A1CCC0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1067040" cy="10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. </a:t>
            </a:r>
            <a:fld id="{9CE86657-8B00-455D-85B5-DEC64B74C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4479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Naam presentatie – Naam maker en/of presentator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/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ulte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am Facultei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Dienst of Vakgroep (optione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731520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anctions and measures in banking and capital market law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 Belgian report -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3068640"/>
            <a:ext cx="7315200" cy="2951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Michel TIS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AEDBF-Belgiu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51280" y="4653000"/>
            <a:ext cx="2313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Traditional approac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under EU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: Enforcement throug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administrative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tool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bligation to designate a “competent authority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Vested with investigation/sanctioning power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uty to co-operate with authorities of other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etails of organisation of “public law” supervision: left over to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ut: “Effectiveness-rule”: measures and sanctions should be “effective, proportionate and dissuasive” (e.g. Art. 14 MA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egal protection for supervised persons: administrative measures open for review in cour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outside of EU competence (unless essential for combating serious offences: ECJ, Case C-196/0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Private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generally not touched upon in EU regulation, with a few excep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onsumer redress through “collective” action by consumer protecion associations (e.g. Art. 52(2)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vailability of out-of court dispute settlement mechanisms (e.g Art. 53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ospectuses: MS should apply their liability systems to issuer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Under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Belgian law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ublic enforcement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enforcement (CBF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ngoing supervision + intervention measur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sanc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Supervisor has no role to play in private enforcement (&lt;-&gt; UK system: restitution order s. 382-384 FSM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Within criminal justice syste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ivate enforcement (liability rul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imited specific rules: prospectus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No class action availabl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2. Criminal sanctions under Belgian law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Underpin most of the violations of unwanted behaviour and practi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financial institu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public deposit-taking activity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ublic securities issue without (approved) prospectus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sider dealing – market manipulation et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Reality: few criminal cas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lowness of precedure, lack of specialization of prosecutors and judges etc.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rden of proof: cf. market abuse: no single (final) criminal conviction in 20 yea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ossibility ofr supervisor to react swiftly theough petition for court injunction against offende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1371240"/>
            <a:ext cx="7504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In general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terrent effect: possibility for supervisor to (re)act swiftly to misbehaviou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General rule: ‘incriminated behaviour is identical as for criminal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t: ‘jurisdiction’ generally restricted to regulated entit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Exception: market abuse: prohibitions under administrative law regime apply to whoever commits market abuse + no need to prove the actual ‘use’ of inside informat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elgian law regime: mainly shaped after reform of Law 2 August 200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paration of functions in enforcement procedure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view of sanctions: brought before ‘normal’ court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Separation of functions in administrative procedur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Mandated by need to comply with Art. 6 ECH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to initiate procedure: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On own initiative or upon a complai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ion: Independent ‘auditor’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es ‘à charge’ and ‘à décharg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Final decision on fine: ‘sanctions committee’ within supervisory board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rosecuted persons have right to be heard befor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Review by the court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Court of appeal of Brussel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 mere ‘judicial review’, but full competence to revoke or modify decis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575840" cy="367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Publicity</a:t>
            </a: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 of administrative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gime inspired by EU market abuse directive: name of offender is diclosed unless it is likely to disrupt the markets or causes disproportionate har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bate on “naming and shaming”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ality: no disclosure of names if administrative decision has been appealed in cour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Settlement procedure (introduced in 200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Auditor can advise to propose a settleme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on settlement: by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f board or addressee refuses to settle: matter is referred to th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ttlement does not preclude the publicity of the decision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spcBef>
                <a:spcPts val="499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Cumulation with criminal procedu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Administrative fine can be imposed as lang as no decision has been taken in criminal matt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f5f5f"/>
                </a:solidFill>
                <a:latin typeface="Arial"/>
              </a:rPr>
              <a:t>Non bis in idem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imputation of administrative fine or settlement amount on criminal fine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1:24:55Z</dcterms:created>
  <dc:creator>Ann Van Driessche</dc:creator>
  <dc:description/>
  <dc:language>en-US</dc:language>
  <cp:lastModifiedBy>Faculteit Rechten</cp:lastModifiedBy>
  <dcterms:modified xsi:type="dcterms:W3CDTF">2008-10-16T16:32:47Z</dcterms:modified>
  <cp:revision>63</cp:revision>
  <dc:subject/>
  <dc:title>PowerPoint-presentatie</dc:title>
</cp:coreProperties>
</file>