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480-9AEC-434A-8C88-2F0AFBCC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534-1BC7-4997-8E78-1922F00D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A79-7B24-4F1D-8E80-6A005C66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BFD-7841-4B34-AB71-5D5EED25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5D7B-7E9B-4834-A615-1601C900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A800-868F-4BE3-A324-EC9ED2AE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0A33-0F11-40AF-BD32-60A4298D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021A-3493-4F87-8EE8-61040EC5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65F1-7B3D-47B3-AB92-940978D4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188640"/>
            <a:ext cx="77407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9C17-18A8-494E-A7C5-DB5D7684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37A5-FEC9-4B59-BBFE-34F4D468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6C3-0816-4523-9668-B7DFC939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4CEE-3690-4FA5-AFEC-B75E9D4C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BC5E-C0B6-4A61-91D3-5F47B7F9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762B-64E5-4AB7-8970-CB5A6CFA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DCBA-B538-4A79-B686-AF598191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A1BC-E9BE-461B-AF2D-C5AB5DBB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806-CB1F-4B06-8FF2-2124E1CE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DF5-7ADD-4EB6-8AC6-A8996DCD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EEB-CF77-4C13-9F26-E06F9E22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403280" y="188640"/>
            <a:ext cx="77407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906-59CC-46E7-96D4-BEE13EC7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DF3-F230-4837-8456-7CF00849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00F-26C2-4578-AD48-9829BC92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248-1941-4B53-BAA2-D195DE5A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7EB5-2378-43EF-8C31-528B2EA83F1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" name=""/>
          <p:cNvGraphicFramePr/>
          <p:nvPr/>
        </p:nvGraphicFramePr>
        <p:xfrm>
          <a:off x="250920" y="260280"/>
          <a:ext cx="10792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028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105A-BF5A-4450-A2BD-4D02518DED0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160" y="5950080"/>
            <a:ext cx="9505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exander Karpf, CES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La Co-op                                     3 October 2003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de-DE" sz="1800" spc="-1" strike="noStrike">
                <a:solidFill>
                  <a:srgbClr val="f77a09"/>
                </a:solidFill>
                <a:latin typeface="Times New Roman"/>
              </a:rPr>
              <a:t>Marktmissbrauchsricht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esr.eu/" TargetMode="External"/><Relationship Id="rId2" Type="http://schemas.openxmlformats.org/officeDocument/2006/relationships/hyperlink" Target="mailto:mfilippa@cesr.eu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6920" y="2276280"/>
            <a:ext cx="7543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Hellenic Association for the European la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Association Europeene pour le droit Bancaire et Financier </a:t>
            </a:r>
            <a:r>
              <a:rPr b="1" lang="el-GR" sz="2400" spc="-1" strike="noStrike">
                <a:solidFill>
                  <a:srgbClr val="000099"/>
                </a:solidFill>
                <a:latin typeface="Footlight MT Light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AEDB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Footlight MT Light"/>
              </a:rPr>
              <a:t>17 </a:t>
            </a: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October </a:t>
            </a:r>
            <a:r>
              <a:rPr b="1" lang="en-GB" sz="2400" spc="-1" strike="noStrike">
                <a:solidFill>
                  <a:srgbClr val="000099"/>
                </a:solidFill>
                <a:latin typeface="Footlight MT Light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Footlight MT Light"/>
              </a:rPr>
              <a:t>Comparative overview of the measures and sanctions provided in the different Member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ootlight MT Light"/>
              </a:rPr>
              <a:t>Mina Filip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ootlight MT Light"/>
              </a:rPr>
              <a:t>Legal Advi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ootlight MT Light"/>
              </a:rPr>
              <a:t>Committee of European Securities Regulators (CES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403280" y="241200"/>
            <a:ext cx="77407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Footlight MT Light"/>
              </a:rPr>
              <a:t>Committee of European Securities Regulators</a:t>
            </a:r>
            <a:r>
              <a:rPr b="0" lang="en-GB" sz="1700" spc="-1" strike="noStrike">
                <a:solidFill>
                  <a:srgbClr val="000099"/>
                </a:solidFill>
                <a:latin typeface="Footlight MT Light"/>
              </a:rPr>
              <a:t> </a:t>
            </a:r>
            <a:endParaRPr b="1" lang="en-US" sz="17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1197000"/>
            <a:ext cx="7127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25B-92D5-401B-A35D-7BE3FD7899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MAD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arket mani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fine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.200 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individual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25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legal entities in Slovenia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75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taly or unlimited in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pecuniary criminal sanction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elgium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5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taly or unlimited in Germany and the U.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Luxembourg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5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s in Latv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8DF-DBB8-452B-B8EC-DC86DA2052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uthoris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and not included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minal pecuniary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40D-EA79-476B-97B8-D9D0B349249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Οδηγία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uthor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s by the authorities or injunction by the Court to cease the illegal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drawal of the lic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ations of warnings or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i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ure of th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missal of the responsible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53C-3288-4A18-AAA8-C6839E17E1B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uthorisation of Investment Fi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fine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2.5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Luxembourg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5.352.990 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Swe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criminal pecuniary sa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5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ulgaria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0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elgium and unlimited in Denmark and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th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nmark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s in Bulgaria and Irel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C52-D8AD-48AC-B036-BCF1FC50B4F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uthorisation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nd Articles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16-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MiFID-Operating conditions of Investment Fi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iteria used to determine the level of the f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ousness of the br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ingness to coope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iance 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ncial heal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damage/ha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act on market/inves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its deri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gree of i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cedents for similar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695-13C4-414B-91B2-DC032F80FFD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Article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16-24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MiFID- Operating condition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Investor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nd not included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2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minal pecuniary sanction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F70-91CB-48CF-94A2-8AAF869F5AA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Article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16-24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MiFID- Operating Condition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Investor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 pecuniary administrative fines and meas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drawal of the lic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 by the authority or injunction by the Court to cease the unauthorized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ation of warning or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pension of voting 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249-B89C-43D8-86F9-EA663F8E12A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Articles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 16-24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MiFID- Operating Conditions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Investor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the f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0.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€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inland and Bulgaria to 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5.352.99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weden and unlimited in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criminal pecuniary sa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6.36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U.K. to 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.5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in Norway to 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s in Slovak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7AD-8D95-4D8F-9B98-9635FC05B04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</a:t>
            </a:r>
            <a:br>
              <a:rPr sz="2600"/>
            </a:b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Prospectus Directive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nistrative measures and sanctions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: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 out of 27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n pecuniary administrative measures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k the issuer to justify its actions/ to comply with the la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hibition or suspension of trading of the issuer’s secu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losure of infractions, issue of public repri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 an audit or change an audi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hibit or suspend advertis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vel of the f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1350 €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Denmark to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2.500.000 €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France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lgium and Portug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B77-9419-4396-88CA-8F04BEA5D71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ΙΙΙ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IN CONCLUSIONS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ost cases, both administrative measures and sanctions and criminal sanctions are provided. Criminal sanctions are mostly provided for infringement of provisions arising out of the Market Abuse Directiv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ower to impose administrative measures lies with the administrative competent auth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gence with regard to the specific non pecuniary measures to be impos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ergence with regard to the level of the fines and criminal pecuniary sanctions and the duration of imprison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gence with regard to the criteria used to determine the level of the fin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606-FFF3-40C0-B107-9620068E5D5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201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verview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Footlight MT Light"/>
              </a:rPr>
              <a:t>Ι.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I</a:t>
            </a:r>
            <a:r>
              <a:rPr b="0" lang="el-GR" sz="3200" spc="-1" strike="noStrike">
                <a:solidFill>
                  <a:srgbClr val="000000"/>
                </a:solidFill>
                <a:latin typeface="Footlight MT Light"/>
              </a:rPr>
              <a:t>Ι</a:t>
            </a: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. Main findings and comparative data regarding measures and sanctions in the different Member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II</a:t>
            </a:r>
            <a:r>
              <a:rPr b="0" lang="el-GR" sz="3200" spc="-1" strike="noStrike">
                <a:solidFill>
                  <a:srgbClr val="000000"/>
                </a:solidFill>
                <a:latin typeface="Footlight MT Light"/>
              </a:rPr>
              <a:t>Ι</a:t>
            </a: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. Main concl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VI.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6583320"/>
            <a:ext cx="7416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1197000"/>
            <a:ext cx="7127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EAD-17A2-4B28-A654-1CA20654C273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V. QUESTIONS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sanctions efficient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Should sanctions be harmonised around the EU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r competition between jurisdictions or regulatory arbitrag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05A-10AF-4252-B7C3-BD096CD6732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V. QUESTIONS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s contributing to the efficiency of the sanction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rity of the legal and regulatory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supervisory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and efficient investigation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on between Competent Authorities of different Member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on between the competent authorities and the judicial authorities/ public prosecu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losure of the sanctions (name &amp; sha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2FA-E17F-465E-A957-43BC4D810A5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For more information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texts of the mapping exercis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www.cesr.e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mfilippa@cesr.e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88B-4A82-47D2-8B03-CECCAD2E37E5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60240" indent="-660240">
              <a:buClr>
                <a:srgbClr val="000099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NTRODUCTION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Short presentation of CESR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Committee of European Securities’ Regulators was established in 2001 by a decision of the European Commission. It operates in the context of the Lamfalussy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9 members: competent authorities of the 27 MS of the EU plus Norway and Icel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purpos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Advising the European Com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Promoting supervisory converg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Enhancing the cooperation between its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operates with the other two L3 Committees,</a:t>
            </a:r>
            <a:r>
              <a:rPr b="0" lang="el-G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EBS of the banking sector and CEIOPS of the insurance sect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ABF-FA3D-4400-9015-94CEB467C59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Ι.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INTRODUCTION</a:t>
            </a:r>
            <a:br>
              <a:rPr sz="2200"/>
            </a:b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CESR</a:t>
            </a: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Mapping Exercises</a:t>
            </a:r>
            <a:endParaRPr b="1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SR has already conducted 3 mapping exercise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Market Abuse Directive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)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On MiFID-at a final stage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Prospectus Directive (PD)- publ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conducting a mapping exercise on the Transparency Directive (T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C85-A901-4A1B-80A7-167DBEE03E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II. INTRODUCTION</a:t>
            </a:r>
            <a:br>
              <a:rPr sz="2200"/>
            </a:b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CESR</a:t>
            </a: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mapping exercises</a:t>
            </a:r>
            <a:endParaRPr b="1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SR conducted the mapping exercises for 3 reasons: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ssess whether its members have equivalent supervisory and sanctioning pow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by the Ecofin and the European Commission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upport the EU-US dialogue on mutual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63F-BAB0-4169-92FE-F69C70101C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ticle 2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sider Tr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minal pecuniary sanctions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B18-AE6F-405D-B90F-A9B8956703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 2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sider Tr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pension of the authori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drawal of the authori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pension or prohibition of professional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pension of the trading of the relevant financial instr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i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ation of warning or 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ase of the illegal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676-15A4-416D-96E4-3A5E03DDA49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 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MAD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sider Tr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the fine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individual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25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legal entities on Slovenia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45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taly or unlimited in the U.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criminal pecuniary sa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elgium to 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0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reland or unlimited in Germany and in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in Belgium to 15 years in Latv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E95-D810-4974-99F5-E885A51329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ticle 5 MAD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rket Manip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minal pecuniary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DC6-EA35-42A0-9731-5B717710548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09:55:48Z</dcterms:created>
  <dc:creator>ccomporti</dc:creator>
  <dc:description/>
  <dc:language>en-US</dc:language>
  <cp:lastModifiedBy>g.filippa</cp:lastModifiedBy>
  <dcterms:modified xsi:type="dcterms:W3CDTF">2008-10-22T09:47:09Z</dcterms:modified>
  <cp:revision>196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