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6E8-DB6A-44AD-BCB5-821B1CA2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D27-B878-4588-96EF-71F3B135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EB6-E84B-4142-9C2E-E2D54EF1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AD9-E7AA-48AC-BE0D-BDAB14E4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DA0-9979-4AC0-919F-9E71882C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E61-A6F0-4ABC-BADA-C9ECFDF1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885-573E-4617-8540-25523C16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F0A-E3A7-4641-B70D-2F9D0904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A7E-A181-434B-A292-4021C5BE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A4A-40E7-498B-B434-78F429B0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735-1C38-4EDB-B41C-B5C38F5F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A5C-A6EF-494A-850F-CB7E9FB7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4E79-F3FA-44D5-9EEA-0D83262E8FD3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rs.lt/" TargetMode="External"/><Relationship Id="rId2" Type="http://schemas.openxmlformats.org/officeDocument/2006/relationships/hyperlink" Target="http://www.lb.lt/" TargetMode="External"/><Relationship Id="rId3" Type="http://schemas.openxmlformats.org/officeDocument/2006/relationships/hyperlink" Target="http://www.lb.lt/" TargetMode="External"/><Relationship Id="rId4" Type="http://schemas.openxmlformats.org/officeDocument/2006/relationships/hyperlink" Target="http://www.lb.lt/" TargetMode="External"/><Relationship Id="rId5" Type="http://schemas.openxmlformats.org/officeDocument/2006/relationships/hyperlink" Target="http://www.lsc.lt/" TargetMode="External"/><Relationship Id="rId6" Type="http://schemas.openxmlformats.org/officeDocument/2006/relationships/hyperlink" Target="http://www.lsc.lt/" TargetMode="External"/><Relationship Id="rId7" Type="http://schemas.openxmlformats.org/officeDocument/2006/relationships/hyperlink" Target="http://www.lsc.lt/" TargetMode="External"/><Relationship Id="rId8" Type="http://schemas.openxmlformats.org/officeDocument/2006/relationships/hyperlink" Target="http://www.dpk.lt/" TargetMode="External"/><Relationship Id="rId9" Type="http://schemas.openxmlformats.org/officeDocument/2006/relationships/hyperlink" Target="http://www.dpk.lt/" TargetMode="External"/><Relationship Id="rId10" Type="http://schemas.openxmlformats.org/officeDocument/2006/relationships/hyperlink" Target="http://www.dpk.lt/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thuania / Lituani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nctions and measures provided in the banking and the capital markets la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intautas Pošiūn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ef Legal Adv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uropean Affairs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nk of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mber of AEDBF and Correspondent in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gposiunas@lb.lt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930240" cy="10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DBA-1F74-4B61-B77F-13DE8405F3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thuania / Lituanie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ctions and measures provided in the banking and the capital markets law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elds: National law implementing the following European Council and Parliament Directives as well as respective implementing measures, if an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) MiFID - 2004/39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Banking Directive - 2006/48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) Prospectus Directive 2003/71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) Transparency Directive 2004/109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) Market Abuse Directive 2003/6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) UCITS, 85/611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in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9B6-5B5A-452E-8FC7-0AD9EE28C7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Hierarchy of legal acts in legal system of Lithu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.1. Adaptation of Co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.2. Competences of the Union – integral part of the legal syste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3. Vertical direct effec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4. Horizontal direct effec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5. Directiv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6. Cod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71E-6363-4C24-9B64-7486923A25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Financial 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. Supervisory authoriti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2. Law on Financial Institut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3. Law on the Bank of Lithuania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4. Law on Bank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icensed bank or branch of a foreign bank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presentative office of a foreign bank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reign bank licensed in a Member State of the European Union and providing financial services in the Republic of Lithuania without establishing a branch or on a branch established in the Republic of Lithuania by a foreign bank licensed in a Member State of the European Union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5. Law on Central Credit Union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6. Law on Credit Un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EF3-7191-45C0-80A5-5098641AF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Financial 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7. Law on Markets in Financial Instrument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8. Law on Collective Investment Undertaking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9. Law on Accumulation of Pens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0. Law on Supplementary Voluntary Accumulation of Pens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1. Law on Insurance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B09-4076-4538-AC06-55073243CB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Explicit competencies of the European Courts – Article 220 (ex 164) (ex ante 164)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ticle 234 (ex 177) (ex ante 177)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corpore or in common is a legal ground for remedy in the context of any conflict of national law of the Member State of the EU vis-à-vis a Community law.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In future Article 234 of the Treaty establishing the European Community is to be substituted by Article 267 of the Treaty on Functioning of the European Union as of 1 January 2009 provided that the Treaty of Lisbon will enter into force).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medy in case of lack of jurisdiction (foreign law)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medy in case of lack of competence (remedy)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0E0-198C-4872-BB4F-6943082BE4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references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of Acc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- (12003T002 – effective 1 May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2005SA002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– effective 1 January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ateral Vienna Convention on the law of treaties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3 May 1969, No. 18232, United Nations, Treaty Series, vol. 1155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imas of the Republic of Lithuania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www.lrs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Bank of Lithuania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www.l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b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Lithuanian Securities Commission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5"/>
              </a:rPr>
              <a:t>http://www.l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6"/>
              </a:rPr>
              <a:t>sc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7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Insurance Supervisory Commission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8"/>
              </a:rPr>
              <a:t>http://www.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9"/>
              </a:rPr>
              <a:t>dpk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0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DD9-23EA-410A-8067-B0BC374616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6:33:38Z</dcterms:created>
  <dc:creator>Gintautas Posiunas</dc:creator>
  <dc:description/>
  <dc:language>en-US</dc:language>
  <cp:lastModifiedBy>d.tsibanoulis</cp:lastModifiedBy>
  <dcterms:modified xsi:type="dcterms:W3CDTF">2008-10-16T14:48:19Z</dcterms:modified>
  <cp:revision>7</cp:revision>
  <dc:subject/>
  <dc:title>Slide 1</dc:title>
</cp:coreProperties>
</file>