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96CD-5174-40AD-8F1B-589FBAC00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BDE5-6ECB-471F-8512-C3153910D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D6AE-AB83-4948-A358-326808BE8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A001-507D-4223-B52E-C957CBB31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5D0-6FE6-46EF-B95E-CADE3F941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C3E-FD2C-4DA3-BB4B-9DC4A2D7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519-0720-41A1-B78F-844B8FCB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CFE-64B9-4669-AD88-13ED5DD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BB0-9C91-4236-8496-52016D60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2E7-BA3C-42A0-AA1C-62B522D0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47D-7B48-4C9F-9669-B283E119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31D4-7DAE-4C6D-A23D-7A4CDCB42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FBE-7EA6-4B32-8496-C979BE7F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150-4B88-40F6-984F-A956E3A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693-1D08-4101-9B58-B9CE1D7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D0A-CAED-48C2-90CA-EC0C624D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D23-3FF8-4D4E-9279-41610D1BF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9AF0-82AC-4765-89C6-4388EA2A6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EE4E-4DA5-451F-B8B2-AB809C50C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04F4-CEB3-4C1A-A2E8-DED687794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258E-3F17-442F-B7BA-B216AF673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4D9B-6EA6-4E3A-8F24-A0E1B0BF1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CD7D-4549-46D8-B453-7E7EA04E2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6411-9512-4098-836F-D9B317968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3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4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5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6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0360"/>
            <a:ext cx="56786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4ED-FA8C-45B5-83CF-17590F562356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678640" cy="289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316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0" lang="en-US" sz="9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295280" y="6295680"/>
            <a:ext cx="426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a1d1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a1d1d"/>
                </a:solidFill>
                <a:latin typeface="Arial"/>
              </a:rPr>
              <a:t>&lt;footer&gt;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- </a:t>
            </a:r>
            <a:fld id="{38F0253D-163F-415A-A3F1-0EFFB88CFA7C}" type="datetime5">
              <a:rPr b="0" lang="fr-FR" sz="800" spc="-1" strike="noStrike">
                <a:solidFill>
                  <a:srgbClr val="000000"/>
                </a:solidFill>
                <a:latin typeface="Arial"/>
              </a:rPr>
              <a:t>30 juil.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7464-7895-4D86-84CA-CC92C194BE26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4724280" cy="632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121440"/>
              <a:ext cx="4648320" cy="7365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5943600"/>
              <a:ext cx="4572000" cy="914400"/>
            </a:xfrm>
            <a:prstGeom prst="rect">
              <a:avLst/>
            </a:prstGeom>
            <a:solidFill>
              <a:srgbClr val="8a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6360" y="1341000"/>
            <a:ext cx="41911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8a1d1d"/>
                </a:solidFill>
                <a:latin typeface="Arial"/>
              </a:rPr>
              <a:t>ADMINISTRATIVE </a:t>
            </a:r>
            <a:r>
              <a:rPr b="1" lang="en-US" sz="1800" spc="-1" strike="noStrike">
                <a:solidFill>
                  <a:srgbClr val="8a1d1d"/>
                </a:solidFill>
                <a:latin typeface="Arial"/>
              </a:rPr>
              <a:t>SANCTIONS AND MEASURES IN FRANCE  BY THE AMF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3523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3338" b="27685"/>
          <a:stretch/>
        </p:blipFill>
        <p:spPr>
          <a:xfrm>
            <a:off x="5000760" y="5962680"/>
            <a:ext cx="287172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400536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Hubert de VAU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905B-C7AF-4ED1-B5DA-6B4D18788A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A LIMITED INDEMNIFICATION FOR THE INJURED PARTY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“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oi de modernisation de l’économie” Act (August 4th, 2008): the increase of the quantum of the administrative sanction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MF sanctions are intended to protect the financial market and not to repair individual damages caused to the investors by the punished entities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Coulon Report : give the possibility to investors, acting within the framework of a class action, to eventually use the elements of the investigation led by the AMF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D378-A69C-4225-862C-AE32F47697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1/2)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01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A/ Mediation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The Mediation principle is influenced by other jurisdictions like UK where the FSA is able to deliver, in certain circumstances, amicable settlement.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U.S. Practice (90 % of the stock-exchange cases are settled by transaction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Pursuant to article L. 621-19 CMF, the AMF is authorised to receive claims relating to matters within its jurisdiction from any interested party and to deal with them appropriately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5AEF-EF98-4388-A3F6-DE6834A100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Settlement agreement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lon Repor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ings up to date the grant of settlement powers to the AMF (it recommends the implementation of new rules that allows AMF to enter into agreement for settlement of claims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Use in practice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Liability recognition or not by the  party that accepts the payment of the penalty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way to (secretly) interpret/ develop its own rules?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n instrument which could be used to indemnify market abuse’ victims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2454-D982-4941-A9AE-79428095C2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TTHE AREA OF THE ADMINISTRATIVE SANCTIONS OF THE A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MF dual enforcement action: disciplinary sanctions and administrative sanctions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pplication area of the administrative sanctions is established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type of the violated rul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author of the viol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ual enforcement action involves two types of appeal proceeding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ought before two different institutions: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r d’Appel of Pari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or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nseil d’Eta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9EAA-A7AD-4781-8C98-224EABC9B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SANCTION SCHEDULE: </a:t>
            </a: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R631-31 &amp;…. C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General Secretary (“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Secrétaire Général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”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investigatio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rwards the investigation report to the Colleg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“College” (Enforcement Commission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Enforcement Procedure that may lead to sanction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notifies the incriminated facts to the parti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forms the prosecutor of the existence of eventual market abuses and sends him the investigation repor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an suspend the activity of the professionals involved in the sanction procedure if they are regulated by AM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Sanctions Commission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one of its members (appointed as a “rapporteur”) coordinates the due hearing procedur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livers the sanction, which the Commission may decide to make publi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22BB-9A69-4432-B90F-6A627AE73E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1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426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-3380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rench Highest Court (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Cour de cassation, chambre commerciale 18 June 1996 and C.E. 3 December 1999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: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quivalence of the COB and CMF procedures in the criminal procedure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338040" algn="just">
              <a:spcBef>
                <a:spcPts val="425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Impartiality Rules (“Principe d’impartialité”).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, in this respect which will be treated in the following slides.</a:t>
            </a:r>
            <a:r>
              <a:rPr b="1" lang="en-US" sz="17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14E0-D19F-490D-8DE3-61442B0C5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A/ Constant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volution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of the sanction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procedure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Reform of the procedure by the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inancial Security Ac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(“Loi de sécurité financière”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aw of December 17, 2007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the right to challenge the appointment of one of the members of the Commission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ecree of September 2008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organization of the challenging  proces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Un “unfinished” statu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recent reforms are they sufficien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What solutions to preserve the independence of the Commiss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16E8-0CB6-4F3C-87FE-185128FAA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1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6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lvl="2" marL="85392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Major consequences: the AMF decision may be declared void or condemned by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CHR court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Legal and regulatory grounds of the Rule of Impartiality  - Relevant provisions of the AMF General Regulation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5, §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a1d1d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0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CEB7-5E92-4639-88F1-10C40F9315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2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ECHR Case law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 the Piersack c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subjective approach refers to the personal impartiality of the judges invol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Discussions of the French case law regarding Impartiality rule: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harmonize this case law with others jurisidic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Rationale of these case laws: is there any clear orientatio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ed for a more detailed/specific analysis to assess if impartiality rules have been breached: e.g. does the circumstance that the relevant member of the Enforcement Commission has built the company establishes a lack of impartiality of such member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Is case law compliant to Presumption of Innoncence Princip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clarify level of impartiality required:  CE 30 May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E124-A140-4CF6-82AE-2D1EF930A1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3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Others consequences of the Principle of Impartiality:</a:t>
            </a:r>
            <a:r>
              <a:rPr b="0" lang="fr-FR" sz="1500" spc="-1" strike="noStrike" u="sng">
                <a:solidFill>
                  <a:srgbClr val="8a1d1d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Publication of the decision is itself a penalty. (CE 9 November 2007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Lack of proportionality of the penalty may be itself contrary to article 6 of the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CHR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This decision is based on the explanation that the publicity of the decision is a matter of public information of the investors and thus of the financi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438D-9189-4373-9AC6-F6CD782D92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THE RULE «NON BIS IN IDEM»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 market abuse can involve both an administrative sanction and a penal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imitation of the addition of the AMF sanctions and the criminal Cou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cancellation of the AMF decision does not affect the validity of the legal proceedings engaged by the criminal Court in the same case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(Cass.Crim., March 1st, 2000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Recommendation n°13 of the "Coulon" Report (February 2008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C3B1-3DF7-4AD9-B8AA-895F9BED36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9:44Z</dcterms:created>
  <dc:creator>ut0FL1</dc:creator>
  <dc:description/>
  <dc:language>en-US</dc:language>
  <cp:lastModifiedBy>d.tsibanoulis</cp:lastModifiedBy>
  <cp:lastPrinted>2004-04-27T13:45:41Z</cp:lastPrinted>
  <dcterms:modified xsi:type="dcterms:W3CDTF">2008-10-14T08:53:03Z</dcterms:modified>
  <cp:revision>217</cp:revision>
  <dc:subject/>
  <dc:title>Titre de la présentation sur 4 lignes maxim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B5C041778B8F2D449CDD17097E238F160700BB2594DA330DC94E8B823BB0E11417C10000000017B10000D92A686FD98C494B80F83313914C88090000170325930000</vt:lpwstr>
  </property>
  <property fmtid="{D5CDD505-2E9C-101B-9397-08002B2CF9AE}" pid="3" name="_EmailStoreID">
    <vt:lpwstr>0000000038A1BB1005E5101AA1BB08002B2A56C200006D737073742E646C6C00000000004E495441F9BFB80100AA0037D96E000000433A5C4F75746C6F6F6B5F446174615C4F75746C6F6F6B2E70737400</vt:lpwstr>
  </property>
  <property fmtid="{D5CDD505-2E9C-101B-9397-08002B2CF9AE}" pid="4" name="_EmailStoreID0">
    <vt:lpwstr>0000000038A1BB1005E5101AA1BB08002B2A56C20000454D534D44422E444C4C00000000000000001B55FA20AA6611CD9BC800AA002FC45A0C00000053455256455230312D504443002F6F3D426F6E6F72614D61696C2F6F753D5072696D6F2067727570706F20616D6D696E69737472617469766F2F636E3D5265636970696</vt:lpwstr>
  </property>
  <property fmtid="{D5CDD505-2E9C-101B-9397-08002B2CF9AE}" pid="5" name="_EmailStoreID1">
    <vt:lpwstr>56E74732F636E3D52466572726574746900</vt:lpwstr>
  </property>
  <property fmtid="{D5CDD505-2E9C-101B-9397-08002B2CF9AE}" pid="6" name="_NewReviewCycle">
    <vt:lpwstr/>
  </property>
  <property fmtid="{D5CDD505-2E9C-101B-9397-08002B2CF9AE}" pid="7" name="_ReviewCycleID">
    <vt:r8>-1445632612</vt:r8>
  </property>
  <property fmtid="{D5CDD505-2E9C-101B-9397-08002B2CF9AE}" pid="8" name="_TentativeReviewCycleID">
    <vt:r8>-1445632612</vt:r8>
  </property>
</Properties>
</file>