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438192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9660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11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43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11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43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A293F-2A15-4EAF-AACA-8E05283A27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835A0-5FE7-48B8-B6F6-44754666AD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65C69-6D45-4A10-A3EC-7A96DC3872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7F7B3-273F-498B-8FDE-5BACF57CFF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44145-B1C4-4E40-B46B-3E2274B402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47920" y="1371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6AA81-447D-4996-9906-51F9E3F88B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C2A2E-3E6E-4294-82D3-1D3DC5CD10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9660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18DE3-267F-4D40-8CCC-E8E0419C41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51AF9-4629-4324-835E-39EF50FB9A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447920" y="438192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79F15-8EC8-44C9-BED5-54553048B8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9660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67D61-3D40-4BC2-A699-E80BBB9EC5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211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43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4479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211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43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9E607-C3CC-4B80-B97E-E31BD065FB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1371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9660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spcBef>
                <a:spcPts val="60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spcBef>
                <a:spcPts val="60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44792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AEDBF – Athens workshop 17 Oct. 2008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F958A7B-E149-4EF9-8D54-A2BCAEC0451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6172200"/>
            <a:ext cx="7315200" cy="0"/>
          </a:xfrm>
          <a:prstGeom prst="line">
            <a:avLst/>
          </a:prstGeom>
          <a:ln w="19080">
            <a:solidFill>
              <a:srgbClr val="0a1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93760" y="333360"/>
            <a:ext cx="8658000" cy="998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1067040" cy="102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. </a:t>
            </a:r>
            <a:fld id="{1F28F81D-5A74-4B9F-A329-D172F379F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172200"/>
            <a:ext cx="7315200" cy="0"/>
          </a:xfrm>
          <a:prstGeom prst="line">
            <a:avLst/>
          </a:prstGeom>
          <a:ln w="19080">
            <a:solidFill>
              <a:srgbClr val="0a1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44792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Naam presentatie – Naam maker en/of presentator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/09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ulte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am Facultei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Dienst of Vakgroep (optione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3760" y="333360"/>
            <a:ext cx="8658000" cy="99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371600"/>
            <a:ext cx="7315200" cy="1447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anctions and measures in banking and capital market law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- Belgian report -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7920" y="3068640"/>
            <a:ext cx="7315200" cy="2951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5f5f"/>
                </a:solidFill>
                <a:latin typeface="Arial"/>
              </a:rPr>
              <a:t>Michel TIS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5f5f"/>
                </a:solidFill>
                <a:latin typeface="Arial"/>
              </a:rPr>
              <a:t>AEDBF-Belgium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51280" y="4653000"/>
            <a:ext cx="23130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1. The public-private enforcement divid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Traditional approach </a:t>
            </a:r>
            <a:r>
              <a:rPr b="1" lang="nl-BE" sz="2000" spc="-1" strike="noStrike">
                <a:solidFill>
                  <a:srgbClr val="5f5f5f"/>
                </a:solidFill>
                <a:latin typeface="Arial"/>
              </a:rPr>
              <a:t>under EU law</a:t>
            </a: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: : Enforcement through </a:t>
            </a:r>
            <a:r>
              <a:rPr b="1" lang="nl-BE" sz="2000" spc="-1" strike="noStrike">
                <a:solidFill>
                  <a:srgbClr val="5f5f5f"/>
                </a:solidFill>
                <a:latin typeface="Arial"/>
              </a:rPr>
              <a:t>administrative law</a:t>
            </a: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 tool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Obligation to designate a “competent authority”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Vested with investigation/sanctioning power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Duty to co-operate with authorities of other M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Details of organisation of “public law” supervision: left over to M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But: “Effectiveness-rule”: measures and sanctions should be “effective, proportionate and dissuasive” (e.g. Art. 14 MAD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Legal protection for supervised persons: administrative measures open for review in court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1. The public-private enforcement divid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188280" indent="191520">
              <a:spcBef>
                <a:spcPts val="45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f5f5f"/>
                </a:solidFill>
                <a:latin typeface="Arial"/>
              </a:rPr>
              <a:t>Criminal enforcement</a:t>
            </a: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: outside of EU competence (unless essential for combating serious offences: ECJ, Case C-196/03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8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88280" indent="191520">
              <a:spcBef>
                <a:spcPts val="45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f5f5f"/>
                </a:solidFill>
                <a:latin typeface="Arial"/>
              </a:rPr>
              <a:t>Private enforcement</a:t>
            </a: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: generally not touched upon in EU regulation, with a few exception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68800" indent="190080"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Consumer redress through “collective” action by consumer protecion associations (e.g. Art. 52(2) MiFID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68800" indent="190080"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Availability of out-of court dispute settlement mechanisms (e.g Art. 53 MiFID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68800" indent="190080"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Prospectuses: MS should apply their liability systems to issuer liability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1. The public-private enforcement divid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Under </a:t>
            </a:r>
            <a:r>
              <a:rPr b="1" lang="nl-BE" sz="2000" spc="-1" strike="noStrike">
                <a:solidFill>
                  <a:srgbClr val="5f5f5f"/>
                </a:solidFill>
                <a:latin typeface="Arial"/>
              </a:rPr>
              <a:t>Belgian law: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Public enforcement: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Administrative enforcement (CBFA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Ongoing supervision + intervention measur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Administrative sanction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Supervisor has no role to play in private enforcement (&lt;-&gt; UK system: restitution order s. 382-384 FSMA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Criminal enforcement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Within criminal justice system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Private enforcement (liability rules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Limited specific rules: prospectus liability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No class action availabl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2. Criminal sanctions under Belgian law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Underpin most of the violations of unwanted behaviour and practic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Non-authorized financial institution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Non-authorized public deposit-taking activity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Public securities issue without (approved) prospectus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Insider dealing – market manipulation etc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Reality: few criminal cas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Slowness of precedure, lack of specialization of prosecutors and judges etc.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Burden of proof: cf. market abuse: no single (final) criminal conviction in 20 year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Possibility ofr supervisor to react swiftly theough petition for court injunction against offender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1371240"/>
            <a:ext cx="7504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3. Administrative sanctions under Belgian law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In general: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Deterrent effect: possibility for supervisor to (re)act swiftly to misbehaviour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General rule: ‘incriminated behaviour is identical as for criminal sanction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But: ‘jurisdiction’ generally restricted to regulated entitie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Exception: market abuse: prohibitions under administrative law regime apply to whoever commits market abuse + no need to prove the actual ‘use’ of inside information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Belgian law regime: mainly shaped after reform of Law 2 August 2002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Separation of functions in enforcement procedure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Review of sanctions: brought before ‘normal’ court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1371240"/>
            <a:ext cx="757584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3. Administrative sanctions under Belgian law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nl-BE" sz="1800" spc="-1" strike="noStrike">
                <a:solidFill>
                  <a:srgbClr val="5f5f5f"/>
                </a:solidFill>
                <a:latin typeface="Arial"/>
              </a:rPr>
              <a:t>Separation of functions in administrative procedur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Mandated by need to comply with Art. 6 ECHR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Decision to initiate procedure: Board of Directors CBF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63040" indent="1882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On own initiative or upon a complaint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Investigation: Independent ‘auditor’ CBF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63040" indent="1882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Investigates ‘à charge’ and ‘à décharge’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Final decision on fine: ‘sanctions committee’ within supervisory board CBF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63040" indent="1882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Prosecuted persons have right to be heard before ‘sanctions committee’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6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f5f5f"/>
                </a:solidFill>
                <a:latin typeface="Arial"/>
              </a:rPr>
              <a:t>Review by the court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Court of appeal of Brussel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No mere ‘judicial review’, but full competence to revoke or modify decision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371240"/>
            <a:ext cx="757584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3. Administrative sanctions under Belgian law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7280" y="2349360"/>
            <a:ext cx="7575840" cy="367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5f5f5f"/>
                </a:solidFill>
                <a:latin typeface="Arial"/>
              </a:rPr>
              <a:t>Publicity</a:t>
            </a: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 of administrative sanction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Regime inspired by EU market abuse directive: name of offender is diclosed unless it is likely to disrupt the markets or causes disproportionate har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Debate on “naming and shaming”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Reality: no disclosure of names if administrative decision has been appealed in court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5f5f5f"/>
                </a:solidFill>
                <a:latin typeface="Arial"/>
              </a:rPr>
              <a:t>Settlement procedure (introduced in 2007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Auditor can advise to propose a settlement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Decision on settlement: by board of directors CBF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If board or addressee refuses to settle: matter is referred to the ‘sanctions committee’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Settlement does not preclude the publicity of the decision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3. Administrative sanctions under Belgian law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90440" indent="193680">
              <a:spcBef>
                <a:spcPts val="499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f5f5f"/>
                </a:solidFill>
                <a:latin typeface="Arial"/>
              </a:rPr>
              <a:t>Cumulation with criminal procedur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spcBef>
                <a:spcPts val="499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Administrative fine can be imposed as lang as no decision has been taken in criminal matt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spcBef>
                <a:spcPts val="499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5f5f5f"/>
                </a:solidFill>
                <a:latin typeface="Arial"/>
              </a:rPr>
              <a:t>Non bis in idem</a:t>
            </a: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: imputation of administrative fine or settlement amount on criminal fine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21:24:55Z</dcterms:created>
  <dc:creator>Ann Van Driessche</dc:creator>
  <dc:description/>
  <dc:language>en-US</dc:language>
  <cp:lastModifiedBy>Faculteit Rechten</cp:lastModifiedBy>
  <dcterms:modified xsi:type="dcterms:W3CDTF">2008-10-16T16:32:47Z</dcterms:modified>
  <cp:revision>63</cp:revision>
  <dc:subject/>
  <dc:title>PowerPoint-presentatie</dc:title>
</cp:coreProperties>
</file>